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3CA-8A1B-4B04-9DD6-4FC471DE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7506-C58A-4CD5-884D-CC694FDB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2AA-66B0-46CF-807C-CBE14CA9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DD7-140D-4FD6-8074-E1DA0FB5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6CD-2627-4592-B8AC-04CDC19D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5278-1408-40D1-8B62-107A18E6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FD2-B3EE-419A-A912-F2B8BE8B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FC0-ED68-4E99-8197-54623E10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33E4-2558-4F18-8E64-9A626E12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321-56CB-47C6-8B6D-01F9928F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499-8D99-4B60-9EA3-133506B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8970-70B8-4D22-B6F4-AAA5F0FC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7DA7-83D9-4F03-9BEA-BE9754EB8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Title 3" descr=""/>
          <p:cNvPicPr/>
          <p:nvPr/>
        </p:nvPicPr>
        <p:blipFill>
          <a:blip r:embed="rId1"/>
          <a:stretch/>
        </p:blipFill>
        <p:spPr>
          <a:xfrm>
            <a:off x="-219240" y="414360"/>
            <a:ext cx="9423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can001 - Copy.jpg"/>
          <p:cNvPicPr/>
          <p:nvPr/>
        </p:nvPicPr>
        <p:blipFill>
          <a:blip r:embed="rId1"/>
          <a:stretch/>
        </p:blipFill>
        <p:spPr>
          <a:xfrm>
            <a:off x="5257800" y="1676520"/>
            <a:ext cx="3446640" cy="33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Kea010806_004[1].jpg"/>
          <p:cNvPicPr/>
          <p:nvPr/>
        </p:nvPicPr>
        <p:blipFill>
          <a:blip r:embed="rId2"/>
          <a:stretch/>
        </p:blipFill>
        <p:spPr>
          <a:xfrm>
            <a:off x="609480" y="144792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429000" y="541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睡  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1600200" y="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文鼎漢語寬拼音C1"/>
                <a:ea typeface="文鼎漢語寬拼音C1"/>
              </a:rPr>
              <a:t>睡   叫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59:58Z</dcterms:created>
  <dc:creator>Monica</dc:creator>
  <dc:description/>
  <dc:language>en-US</dc:language>
  <cp:lastModifiedBy>Monica</cp:lastModifiedBy>
  <dcterms:modified xsi:type="dcterms:W3CDTF">2009-10-02T07:03:56Z</dcterms:modified>
  <cp:revision>1</cp:revision>
  <dc:subject/>
  <dc:title>二零零九年十月十二日 星期一</dc:title>
</cp:coreProperties>
</file>